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A42-37BE-48CE-882C-A7CB3430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928-8C7B-4ACD-99FC-D7D5B379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6DA-09CE-4552-88ED-6EC8186A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F46-CCD0-4373-89A8-CF1BB07D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45D0-C2F2-4A28-89C5-EAD24985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16D9-1964-4B28-A81C-86E284B2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739C-17EC-4C3F-A0CE-ABCD2EB0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7CBD-486C-4E5B-861A-1D0D68DA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B991-7C3B-4320-977E-4D6B1BCB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C206-209F-429C-9942-C8AD9042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1390-9095-4EEF-B090-F30F3564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E99-F2C0-47B4-BB15-F9E3975F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B340-12E5-49F5-A9AE-C3E98B80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C235-3CE3-4223-B151-6EE32A50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94BF-29BB-4A31-9622-031DEE02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8172-FD7D-4656-AF26-9368050D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3A99-6FB9-4911-B784-9A29B728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8CC-747D-45A5-B2C3-E629E868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6BC-5F64-4A04-9D1C-6CAB2472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964-8AC6-4E79-A63F-091831D6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DA9-9AC7-4437-8E1C-A3CF4300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470-B45F-424D-8C21-ADBF6960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158-43BA-4B39-8F38-D30BF7F8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752-A90D-460D-B7B9-A64C8555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88BD-EED0-4E1E-B70C-F9FA27E562CC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halkboard Bold"/>
              </a:rPr>
              <a:t>Click to edit the title text format</a:t>
            </a:r>
            <a:endParaRPr b="0" lang="en-US" sz="6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C6DD-4ED2-40D9-A8C2-98E643DDCE39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Chalkboar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Chalkboar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quest.sdsu.edu/adapting/index.html" TargetMode="External"/><Relationship Id="rId3" Type="http://schemas.openxmlformats.org/officeDocument/2006/relationships/hyperlink" Target="http://webquest.sdsu.edu/adapting/index.htm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kn.pacbell.com/wired/fil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uclasciproject.com/Chem2006/WEBQUEST%20TEMPLATE.doc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lideshare.net/JimFolk/web-quest-template-pdf-format/" TargetMode="External"/><Relationship Id="rId3" Type="http://schemas.openxmlformats.org/officeDocument/2006/relationships/hyperlink" Target="http://eduscapes.com/sessions/travel/create.htm" TargetMode="External"/><Relationship Id="rId4" Type="http://schemas.openxmlformats.org/officeDocument/2006/relationships/hyperlink" Target="http://www.ebecri.org/media/gr%20-%20title%20by%20name.zip" TargetMode="Externa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quest.org/index.ph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teachersfirst.com/summer/webquest/quest-b.shtml" TargetMode="External"/><Relationship Id="rId5" Type="http://schemas.openxmlformats.org/officeDocument/2006/relationships/hyperlink" Target="http://www.teachersfirst.com/summer/webquest/quest-b.shtml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microsoft.com/education/designwebquest.mspx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www.thirteen.org/edonline/concept2class/webquests/index.html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www.tcnj.edu/~caties/documents/WebQuests.pdf" TargetMode="External"/><Relationship Id="rId12" Type="http://schemas.openxmlformats.org/officeDocument/2006/relationships/hyperlink" Target="http://www.tcnj.edu/~caties/documents/WebQuests.pdf" TargetMode="External"/><Relationship Id="rId13" Type="http://schemas.openxmlformats.org/officeDocument/2006/relationships/image" Target="../media/image2.png"/><Relationship Id="rId14" Type="http://schemas.openxmlformats.org/officeDocument/2006/relationships/hyperlink" Target="http://surfaquarium.com/presentations/webquest.pdf" TargetMode="External"/><Relationship Id="rId15" Type="http://schemas.openxmlformats.org/officeDocument/2006/relationships/hyperlink" Target="http://surfaquarium.com/presentations/webquest.pdf" TargetMode="External"/><Relationship Id="rId1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ducationworld.com/a_issues/chat/chat015.shtml" TargetMode="External"/><Relationship Id="rId3" Type="http://schemas.openxmlformats.org/officeDocument/2006/relationships/hyperlink" Target="http://www.educationworld.com/a_issues/chat/chat015.shtml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educationworld.com/a_tech/tech/tech011.shtml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bestwebquests.com/what_webquests_are.asp" TargetMode="External"/><Relationship Id="rId8" Type="http://schemas.openxmlformats.org/officeDocument/2006/relationships/hyperlink" Target="http://bestwebquests.com/what_webquests_are.asp" TargetMode="External"/><Relationship Id="rId9" Type="http://schemas.openxmlformats.org/officeDocument/2006/relationships/hyperlink" Target="http://bestwebquests.com/what_webquests_are.asp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bestwebquests.com/tips/red_flags.asp" TargetMode="External"/><Relationship Id="rId12" Type="http://schemas.openxmlformats.org/officeDocument/2006/relationships/hyperlink" Target="http://bestwebquests.com/tips/red_flags.asp" TargetMode="External"/><Relationship Id="rId13" Type="http://schemas.openxmlformats.org/officeDocument/2006/relationships/image" Target="../media/image2.png"/><Relationship Id="rId14" Type="http://schemas.openxmlformats.org/officeDocument/2006/relationships/hyperlink" Target="http://www.webquestdirect.com.au/whatis_articles2.asp" TargetMode="External"/><Relationship Id="rId15" Type="http://schemas.openxmlformats.org/officeDocument/2006/relationships/hyperlink" Target="http://www.webquestdirect.com.au/whatis_articles2.asp" TargetMode="External"/><Relationship Id="rId16" Type="http://schemas.openxmlformats.org/officeDocument/2006/relationships/image" Target="../media/image2.png"/><Relationship Id="rId17" Type="http://schemas.openxmlformats.org/officeDocument/2006/relationships/hyperlink" Target="http://webquest.sdsu.edu/roadmap/index.htm" TargetMode="External"/><Relationship Id="rId18" Type="http://schemas.openxmlformats.org/officeDocument/2006/relationships/hyperlink" Target="http://webquest.sdsu.edu/roadmap/index.htm" TargetMode="External"/><Relationship Id="rId19" Type="http://schemas.openxmlformats.org/officeDocument/2006/relationships/image" Target="../media/image2.png"/><Relationship Id="rId20" Type="http://schemas.openxmlformats.org/officeDocument/2006/relationships/hyperlink" Target="http://projects.edtech.sandi.net/staffdev/tpss99/tasksimap/" TargetMode="External"/><Relationship Id="rId21" Type="http://schemas.openxmlformats.org/officeDocument/2006/relationships/hyperlink" Target="http://projects.edtech.sandi.net/staffdev/tpss99/tasksimap/" TargetMode="External"/><Relationship Id="rId22" Type="http://schemas.openxmlformats.org/officeDocument/2006/relationships/image" Target="../media/image2.png"/><Relationship Id="rId23" Type="http://schemas.openxmlformats.org/officeDocument/2006/relationships/hyperlink" Target="http://www.emsb.qc.ca/recit/workshops/wq/sld001.htm" TargetMode="External"/><Relationship Id="rId24" Type="http://schemas.openxmlformats.org/officeDocument/2006/relationships/hyperlink" Target="http://www.emsb.qc.ca/recit/workshops/wq/sld001.htm" TargetMode="External"/><Relationship Id="rId2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ecdsb.on.ca/d&amp;g/DP/main.htm" TargetMode="External"/><Relationship Id="rId3" Type="http://schemas.openxmlformats.org/officeDocument/2006/relationships/hyperlink" Target="http://www.gecdsb.on.ca/d&amp;g/DP/main.htm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annettelamb.com/tap/topic4.htm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rubistar.4teachers.org/index.php" TargetMode="External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tawba.k12.nc.us/techtrac/plus/muckinhoupt/" TargetMode="External"/><Relationship Id="rId2" Type="http://schemas.openxmlformats.org/officeDocument/2006/relationships/hyperlink" Target="http://harmony2.millersville.edu/webquest/summer2004/ahoward/PeriodicTable/Intro.html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" Target="slide12.xml"/><Relationship Id="rId7" Type="http://schemas.openxmlformats.org/officeDocument/2006/relationships/image" Target="../media/image2.png"/><Relationship Id="rId8" Type="http://schemas.openxmlformats.org/officeDocument/2006/relationships/slide" Target="slide13.xml"/><Relationship Id="rId9" Type="http://schemas.openxmlformats.org/officeDocument/2006/relationships/image" Target="../media/image2.png"/><Relationship Id="rId10" Type="http://schemas.openxmlformats.org/officeDocument/2006/relationships/slide" Target="slide14.xml"/><Relationship Id="rId11" Type="http://schemas.openxmlformats.org/officeDocument/2006/relationships/image" Target="../media/image2.png"/><Relationship Id="rId12" Type="http://schemas.openxmlformats.org/officeDocument/2006/relationships/slide" Target="slide15.xm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halkboard Bold"/>
              </a:rPr>
              <a:t>Webquests in Science</a:t>
            </a:r>
            <a:br>
              <a:rPr sz="6600"/>
            </a:br>
            <a:endParaRPr b="0" lang="en-US" sz="6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388584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"/>
              </a:rPr>
              <a:t>Teaching With Technology</a:t>
            </a:r>
            <a:endParaRPr b="0" lang="en-US" sz="4400" spc="-1" strike="noStrike">
              <a:solidFill>
                <a:srgbClr val="003300"/>
              </a:solidFill>
              <a:latin typeface="Chalkboar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Presenter: Andrea Dormer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Introduction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Capture their attention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 preview the assignmen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Usually contain background info and motivational scenarios (ex. You are an astronaut planning a trip to the moon.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4038480" y="5715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Task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Describe th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purpose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to the activity and the end produc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4038480" y="5715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Proces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Explain the step-by-step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trategie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students will use to complete the task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Provides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link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to pre-approved websites.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an b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enhanced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with videos, posters, maps, models, manipulatives, and mor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4038480" y="5715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Evaluation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hows th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rubric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/or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criteria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by which the project will be graded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Measures the results of the WebQues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tandards should be fair, clean, consistent, and specific to the tasks se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5715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onclusion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ums up the activity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Encourages students to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reflect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on the project and their results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5715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Teacher Page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is is an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optional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page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It can include state and/or national standards for the lesson as well as suggestions on how to make the WebQuest more effective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5715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So…Where Do You Start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 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e first question you need to ask yourself is…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hould I make a WebQuest or use  one I found on the Internet?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“</a:t>
            </a: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Don’t reinvent the wheel”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 can find a lot of already made WebQuests online with a little research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I have listed a few science examples on my CFF wikispace and have placed some helpful links at the end of this PowerPoin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Adapt an Existing WebQues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ometimes you can find a WebQuest that needs only minor adaptations.  Use the following website for ideas on how to modify it to best meet your needs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Adapting A 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WebQues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reate Your Own WebQues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Use a free online resource: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Filamentality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This website allows you to fill in the blanks and creates a WebQuest for you.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teAchnology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This website is also a WebQuest generator.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is a WebQuest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WebQuest is an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inquiry-oriented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lesson format in which some or all of the information that students interact with comes from sources on the Interne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is model was developed by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Bernie Dodge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t San Diego State University    in 1995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reate a WebQuest in Word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reate a word document outlining all the 6 steps.  Include the websites on this documen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e following template could be helpful: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Word Templat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reate a WebQuest in PowerPoin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How to Hyperlink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lick on text or an object you would like to hyperlink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AutoShape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Go to “Insert” and then “Hyperlink”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505320" y="4191120"/>
            <a:ext cx="1765080" cy="17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Template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Or you can use one of the following templates as a starting point to your PowerPoint WebQues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Template On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Template Two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halkboard"/>
              </a:rPr>
              <a:t>(Look for PowerQuest Template)</a:t>
            </a: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4"/>
              </a:rPr>
              <a:t>Template Three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halkboard Bold"/>
              </a:rPr>
              <a:t>Resources Used in This Presentation</a:t>
            </a:r>
            <a:endParaRPr b="0" lang="en-US" sz="3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Bernie Dodge’s Website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4"/>
              </a:rPr>
              <a:t>Webquest 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5"/>
              </a:rPr>
              <a:t>101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7"/>
              </a:rPr>
              <a:t>How to Design A WebQues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9"/>
              </a:rPr>
              <a:t>Concept to Classroom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1"/>
              </a:rPr>
              <a:t>Webquests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2"/>
              </a:rPr>
              <a:t>: Teaching with Technology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4"/>
              </a:rPr>
              <a:t>Webquests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5"/>
              </a:rPr>
              <a:t>: Growing with Technology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halkboard Bold"/>
              </a:rPr>
              <a:t>Interesting WebQuest Articles</a:t>
            </a:r>
            <a:endParaRPr b="0" lang="en-US" sz="3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Interview with Bernie Dodge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(Creator of WebQuests  By Linda Sarr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5"/>
              </a:rPr>
              <a:t>It’s Easier Than You Think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By Linda Sarr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7"/>
              </a:rPr>
              <a:t>What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8"/>
              </a:rPr>
              <a:t>WebQuests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9"/>
              </a:rPr>
              <a:t>Are (Really)</a:t>
            </a:r>
            <a:r>
              <a:rPr b="0" lang="en-US" sz="900" spc="-1" strike="noStrike">
                <a:solidFill>
                  <a:srgbClr val="0033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By Tom March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1"/>
              </a:rPr>
              <a:t>7 Red Flags when Sifting Through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2"/>
              </a:rPr>
              <a:t>WebQuests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   By Tom March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4"/>
              </a:rPr>
              <a:t>WebQuest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5"/>
              </a:rPr>
              <a:t>Direct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   A List of Many WebQuest Articles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7"/>
              </a:rPr>
              <a:t>A Road Map For Designing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8"/>
              </a:rPr>
              <a:t>WebQuests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   PowerPoint by Bernie Dodge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0"/>
              </a:rPr>
              <a:t>WebQuest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1"/>
              </a:rPr>
              <a:t>Taskonomy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3"/>
              </a:rPr>
              <a:t>21st Century Skills in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4"/>
              </a:rPr>
              <a:t>WebQuest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Pre-Made WebQuest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WebQuest 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Locater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Find Pre-Made WebQuest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5"/>
              </a:rPr>
              <a:t>Teacher Tap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Locate and Evaulate WebQuest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7"/>
              </a:rPr>
              <a:t>Rubistar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Rubrics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/>
          </p:cNvPr>
          <p:cNvSpPr/>
          <p:nvPr/>
        </p:nvSpPr>
        <p:spPr>
          <a:xfrm>
            <a:off x="1373760" y="1905120"/>
            <a:ext cx="641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b004"/>
                </a:solidFill>
                <a:latin typeface="Arial"/>
              </a:rPr>
              <a:t>Let’s Look At An Example!!!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>
            <a:hlinkClick r:id="rId2"/>
          </p:cNvPr>
          <p:cNvSpPr/>
          <p:nvPr/>
        </p:nvSpPr>
        <p:spPr>
          <a:xfrm>
            <a:off x="2669400" y="365760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a00"/>
                </a:solidFill>
                <a:latin typeface="Arial"/>
              </a:rPr>
              <a:t>Here is Another One!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8880" y="4191120"/>
            <a:ext cx="80028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It Is…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Group Projec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Web-based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Open-Ended Questions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Higher-Level Thinking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tudent Centered (Teacher Facilitated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ollaborativ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21st Century Learning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It Is NOT…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“Scavenger Hunt”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Repor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Question with a Predefined Answer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Way to Teach Factual Informat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are the benefits of WebQuests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e amount of information available will grow at an accelerating pace; much of it will come directly from a growing number of sources without filtering or verification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omorrow’s workers will need to be able to work in teams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Help to create a lifelong process of learning, honoring multiple perspectives and evaluating information before acting on it.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ombines a list of sequential steps and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pre-selected website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  This allows for a controlled research environmen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How does this benefit you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r classroom becomes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tudent centered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facilitate learning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instead of lecturing or directing.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 can watch all students succeed since this type of teaching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upports all learner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 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Basic Layou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 action="ppaction://hlinksldjump"/>
              </a:rPr>
              <a:t>Introduct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4" action="ppaction://hlinksldjump"/>
              </a:rPr>
              <a:t>Task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6" action="ppaction://hlinksldjump"/>
              </a:rPr>
              <a:t>Process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8" action="ppaction://hlinksldjump"/>
              </a:rPr>
              <a:t>Evaluat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0" action="ppaction://hlinksldjump"/>
              </a:rPr>
              <a:t>Conclus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(optional) 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2" action="ppaction://hlinksldjump"/>
              </a:rPr>
              <a:t>Teacher Pag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8:11:24Z</dcterms:created>
  <dc:creator>Andrea Dormer</dc:creator>
  <dc:description/>
  <dc:language>en-US</dc:language>
  <cp:lastModifiedBy>Andrea Dormer</cp:lastModifiedBy>
  <dcterms:modified xsi:type="dcterms:W3CDTF">2008-03-03T15:07:55Z</dcterms:modified>
  <cp:revision>24</cp:revision>
  <dc:subject/>
  <dc:title>Webquests in Science </dc:title>
</cp:coreProperties>
</file>